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DF7-7D74-47CB-991E-0E42F53C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73C-B57C-4595-B58E-F228DE2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AD0-49E8-4F16-A1FE-F632DA99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C5B-C5A8-424F-9A60-B54A0CC8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2A2-8FA8-4D5F-BF1F-3697B9EA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3D1-5B54-43AB-AC32-5765BE05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901-1ADE-4553-824D-2AFD020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47B-A700-4A52-ABD6-CBFE876D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02E-F11C-45BD-9E06-00AFD235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CF0-C41E-4A51-BB0E-5DA42F6E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8BA-D63C-4A4E-A17E-13E7035F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20E-E657-4EF7-981A-BC5002B6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198C-50DC-4C96-B6FC-A91C0809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epperso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90000" y="6087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5253120"/>
            <a:ext cx="2590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1447920"/>
            <a:ext cx="47242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psic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4191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tretch/>
        </p:blipFill>
        <p:spPr>
          <a:xfrm>
            <a:off x="0" y="533520"/>
            <a:ext cx="3757680" cy="556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7880" y="35812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am, Popsicle, March 9,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epper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8380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k Epperson invented the pops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5964"/>
            </a:gs>
            <a:gs pos="100000">
              <a:srgbClr val="76c2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Epperson invented the popsicle when he was 11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94 in San Francisco Califor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vented the popsicle in 19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vented the popsicle on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invention is popular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Popsic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sicle is a frozen fruit-substance on a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invented by Frank Ep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ade on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ade in 19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hundreds of millions of popsicles are eaten in the United States each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4:52Z</dcterms:created>
  <dc:creator>install</dc:creator>
  <dc:description/>
  <dc:language>en-US</dc:language>
  <cp:lastModifiedBy>install</cp:lastModifiedBy>
  <dcterms:modified xsi:type="dcterms:W3CDTF">2010-03-22T16:07:55Z</dcterms:modified>
  <cp:revision>6</cp:revision>
  <dc:subject/>
  <dc:title>Slide 1</dc:title>
</cp:coreProperties>
</file>